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1F2-647E-477D-AF83-522368C4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1DA-E34B-46C3-995B-65ED13FF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28A-47C7-4EAF-A07C-37AC461A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FA3-1BED-4380-8CA0-82B3FAED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A0-EF8F-4808-8453-17B276A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D65-865B-4ECD-90C5-DB94032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4C0-9961-46CA-BF78-12A8137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637-D519-43B6-B692-9BD67388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125-0F80-4F1D-AB02-446D609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ED2-280D-4DA9-B326-9E2C791B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258-6F4C-4A4E-93A3-E0E8AA2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A03-D947-4328-991B-8439300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3FCE-9A2C-4CEB-B603-5CAF7847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ueva Std"/>
              </a:rPr>
              <a:t>This is Just To Say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ueva Std"/>
              </a:rPr>
              <a:t>By AC and Al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enguin 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477120" y="3505320"/>
            <a:ext cx="2666880" cy="198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have me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engu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t were in Antarct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id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1981080"/>
            <a:ext cx="2666880" cy="279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ich were sliding on their  tum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ere probably wondering where I 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art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638680" y="3352680"/>
            <a:ext cx="31244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ive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lef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the pengu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ather and son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minebilder/350687732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enguin invasion!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straymuffin/89009605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inguin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28089309@N07/2618357729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47:51Z</dcterms:created>
  <dc:creator>Lakeview</dc:creator>
  <dc:description/>
  <dc:language>en-US</dc:language>
  <cp:lastModifiedBy>cyndi.vander_ven</cp:lastModifiedBy>
  <dcterms:modified xsi:type="dcterms:W3CDTF">2009-04-27T01:44:29Z</dcterms:modified>
  <cp:revision>4</cp:revision>
  <dc:subject/>
  <dc:title>This is Just To Say..</dc:title>
</cp:coreProperties>
</file>